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01C4-7513-40DB-922C-CFE86F2A6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6754-CDC7-4337-ABB9-5051F8FDB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EBAA-4B3E-4529-A882-A4EA6393F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397A-B2FC-4D3C-86F0-07800A0C6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3246-9064-4675-A9D8-8B2BB521D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02F3-444C-4CB1-9A82-83E7AC2B9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3677-6330-480F-A938-B5E98EAB6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84B6-EA83-40BD-A232-8D5B73DCD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32CF-E1C5-4BF3-86B6-F7279BA5F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7C6F-49EF-433B-94E2-2A60AC425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1DC0-CCB1-4990-9924-C9912E85C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3192-3EF2-450E-AFF4-39D81F95E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1C61-0ACE-4FAC-8F95-BD117CC43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1A47-6369-4A95-B790-D5F19FBCE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74BEC-9F9B-45D7-993F-9C543B17E2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03F50-3D1F-4AE4-852D-04121D381A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6FFE5-40A7-4AF3-B991-140E237C40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579AD-FC06-4736-B59E-BDA1AAA031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6BD8-AA80-4AB1-929B-1DB609A3B6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8F75-5330-45CB-9771-0E4B67263D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9DFA-FFFD-4976-86EF-58AC55BBDB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4967-40D0-4BCD-832A-158A28E8DE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98B3-1F1C-4A76-8A93-237AD31442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DEC5-DF73-4FD1-86EA-DCFB28679A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2C84-F655-4F48-A5A3-062D5E8E08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FA77A-9D88-4116-B889-B3883EC603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B1D8-5950-4590-A456-556C7CAE5E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6A9D-C71B-44F4-8E4A-6EC0F2752E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E5CC-6B38-4037-A84F-00B9046E80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DDCA-8AAE-4886-8311-2D31EF35A3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5B50-CA48-4FBF-BBBE-D490533EF7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F4C49-B2E4-46B9-B1B1-D8DC68013E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6E84C-4802-461F-815B-96831A2967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E1937-C365-402D-AB8E-21D30033E3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A03A8-2587-4671-8153-A3CC71BFF2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B79CA-F558-4F46-8039-B4BBCA58C1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F386E-467D-458E-B8E0-D15BEC734A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571B7-8605-4108-BFE5-1B43430C98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47560" y="6400080"/>
            <a:ext cx="5105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37524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2BA6-D529-46DC-AF2A-44EB9BA3CF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4A36-1E9C-4FF9-8C96-850365E945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2348-A12A-4ECE-B2D6-8211AD4906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4080" y="1668240"/>
            <a:ext cx="5181840" cy="25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Организация программы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внешней оценки качества (ВОК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14CD-EAC1-4402-8B5B-5E488BED66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09120" y="2133360"/>
            <a:ext cx="807732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направленность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цели и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правила конфиденциа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благодарности, признание вкл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контактна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календарный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7891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Обмен информаци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70E8-BED0-403E-A8EB-154C52BAEE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Отслежи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077320" cy="31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комментариев, отзывов на от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оли «арбитра» организатора 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замечаний и рекомендаций от участвующих лаборато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илучших путей решения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илучших способов для рекомендации определенных мет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MCj01572990000[1]"/>
          <p:cNvPicPr/>
          <p:nvPr/>
        </p:nvPicPr>
        <p:blipFill>
          <a:blip r:embed="rId1"/>
          <a:stretch/>
        </p:blipFill>
        <p:spPr>
          <a:xfrm>
            <a:off x="990720" y="4287960"/>
            <a:ext cx="2514600" cy="18842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8"/>
          <p:cNvSpPr/>
          <p:nvPr/>
        </p:nvSpPr>
        <p:spPr>
          <a:xfrm>
            <a:off x="3505320" y="4495680"/>
            <a:ext cx="5105160" cy="1447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  <a:ea typeface="SimSun"/>
              </a:rPr>
              <a:t>Отлично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  <a:ea typeface="SimSun"/>
              </a:rPr>
              <a:t>!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  <a:ea typeface="SimSun"/>
              </a:rPr>
              <a:t>Так и должно бы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9224-DF0F-4BDC-BE3D-69BC3355DE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участвовать в международной 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привлеките вышестоящие орг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прост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мал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неинфекционных матери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перед началом проведите испы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хорошим планом по взаимодействию и обмену информа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будьте очень внимательны к комментариям и отзыв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Verdana"/>
                <a:ea typeface="SimSun"/>
              </a:rPr>
              <a:t>Запуск программы ВОК для всей 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Вы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2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1B9B-7CE3-4473-868D-E780076E79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41440" y="1209240"/>
            <a:ext cx="402588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Verdan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7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8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8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8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9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9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9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20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20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21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21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22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22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22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9" name="Footer Placeholder 1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533520" y="6276600"/>
            <a:ext cx="51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582D-6865-40D2-9EC8-57B9B58E13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Типы В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8188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циональная программа проверки компетен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еть лабораторий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жлабораторные сравнения, пере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ка на 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533520" y="6429240"/>
            <a:ext cx="51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47C7-041D-4B3C-9E1B-D460E3A031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458200" cy="25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Для организатора ВОК необходимо предшествующее (успешное!) участие в программе В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971440"/>
            <a:ext cx="82296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SimSun"/>
              </a:rPr>
              <a:t>участие в международной программ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 (для организатора национальной программ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тслеживание качества в своей лабора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необходимо и обязат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опрос об уверенности в своих сил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E8A8-0630-46A6-A16E-37F7B0EE8D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4928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Привлеките вышестоящие орг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71320" y="1828800"/>
            <a:ext cx="834372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ходит в сферу их полномоч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беспеч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66"/>
                </a:solidFill>
                <a:latin typeface="Verdana"/>
                <a:ea typeface="SimSun"/>
              </a:rPr>
              <a:t>долгосрочн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средства и способы обмена информаци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связь с органами по лицензированию, сертификации, аккредит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финансирование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мероприят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ВОК приводят к эконом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средств, финансирован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их оправдан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MCj01570510000[1]"/>
          <p:cNvPicPr/>
          <p:nvPr/>
        </p:nvPicPr>
        <p:blipFill>
          <a:blip r:embed="rId1"/>
          <a:stretch/>
        </p:blipFill>
        <p:spPr>
          <a:xfrm>
            <a:off x="6858000" y="4343400"/>
            <a:ext cx="213372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F5BC-B71D-4AF8-B103-3C024EE793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Начните с прост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3059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ка компетен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редметные стекл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окрашенные или неокраш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окраска по Гра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окраска на К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араз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идентификация бактериальных штам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ишечных микроорганизмов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ерепрове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редметные стекла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УБ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Грам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СМЖ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другие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бактериальные штаммы, если имеются материальные и технические возможности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оллекция штам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frottis"/>
          <p:cNvPicPr/>
          <p:nvPr/>
        </p:nvPicPr>
        <p:blipFill>
          <a:blip r:embed="rId1"/>
          <a:stretch/>
        </p:blipFill>
        <p:spPr>
          <a:xfrm>
            <a:off x="5943600" y="22716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0" name="AutoShape 6"/>
          <p:cNvSpPr/>
          <p:nvPr/>
        </p:nvSpPr>
        <p:spPr>
          <a:xfrm>
            <a:off x="4267080" y="2438280"/>
            <a:ext cx="1600200" cy="4572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A5A4-5BC5-4542-8909-9F6281BFF8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609588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Начните с мал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792468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небольшое число лаборато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регион для испы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проверьте вариан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транспортир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лаборатории на анал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(еще не участвующие в программ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первая проверка на простых задачах (предметные стек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макс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лабораторий в течение 1-го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макс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пробы в одной рассылке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не реже 2 раз в год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j0278576"/>
          <p:cNvPicPr/>
          <p:nvPr/>
        </p:nvPicPr>
        <p:blipFill>
          <a:blip r:embed="rId1"/>
          <a:stretch/>
        </p:blipFill>
        <p:spPr>
          <a:xfrm>
            <a:off x="6477120" y="1447920"/>
            <a:ext cx="2151000" cy="259056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8"/>
          <p:cNvSpPr/>
          <p:nvPr/>
        </p:nvSpPr>
        <p:spPr>
          <a:xfrm rot="19759200">
            <a:off x="6934320" y="19810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624E-84A0-4FBF-99E6-68EDAAFB43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SimSun"/>
              </a:rPr>
              <a:t>Начните с не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 начале избегайте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«особо опасных»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патог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инфекционных сыворо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ыполняйте национальные правила по транспортир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nhls1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05F7-787A-420B-84EC-D8B82B8100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382320"/>
            <a:ext cx="624816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Требующаяся инфра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2076120"/>
            <a:ext cx="426708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бочий ст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небольшая лабора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редства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nhls2"/>
          <p:cNvPicPr/>
          <p:nvPr/>
        </p:nvPicPr>
        <p:blipFill>
          <a:blip r:embed="rId1"/>
          <a:stretch/>
        </p:blipFill>
        <p:spPr>
          <a:xfrm>
            <a:off x="5105520" y="2131920"/>
            <a:ext cx="335268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EA32-7607-4555-9EA9-67FFB632C4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891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Обмен информацией 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91320" cy="38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частвующими лаборатор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ышестоящими орга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научными сообще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рофессиональными ассоциац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любыми другими сторонами, заинтересованными в 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j0283214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6781680" y="2585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«В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Olga</cp:lastModifiedBy>
  <dcterms:modified xsi:type="dcterms:W3CDTF">2013-05-15T13:57:15Z</dcterms:modified>
  <cp:revision>52</cp:revision>
  <dc:subject/>
  <dc:title>EQA scheme Organization optional</dc:title>
</cp:coreProperties>
</file>